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42720" y="685800"/>
            <a:ext cx="256860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9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AF410-578C-4327-B58F-6E1EAA880D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BDCEB-4907-4E57-B346-B94CF74A73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5D81A-1D86-402E-BF6D-97D543431D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3A6AA-3FA1-4602-BE89-302F2594D0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83D30-8748-4B6C-948C-BAE6BA814D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E4F86-CAB1-44EC-9141-8AFCD7FBBA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689F6-A9EB-40FE-A3CD-C445F1994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7C3F8-EDCA-477B-BA5A-78F3E8E06F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58791-3F56-49FC-8A9D-559F03CD7F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9041D-9F89-411E-8610-3D91EF05AF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92384-9954-45ED-9227-9499A0166C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CBFE0-07DE-4172-8197-58CB18FD65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0D559-5E34-49A8-B0CF-D71E55139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5CA14-9CC6-4511-B8C4-6E5786B37B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FB1DF-783B-4C88-8032-1470EEB73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52E2F-9D83-438F-AFC6-3DFF7048CE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Text Box 2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52F0-6543-42D0-8066-F5BF579B96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80FF5-3E4F-4129-9C4C-EAEB0C0E1D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30EB-BD37-44B1-931A-C2F8077B1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D42D-E97C-4074-B7D5-4A199341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22A3E-FE8E-48C0-931B-A5A6AAD3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CC9FF-B8EB-4D20-B33A-AA2F561F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42459-7622-4462-8F87-ED54199C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3FE8E-ECAC-43FC-BE94-3E186B96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6DD5E-4189-47A6-890B-24EED3B6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D4079-DFCF-4E92-9154-1A7FF4F8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20AA9-6D92-435D-B36A-F570DC76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7C17E-FC30-4B55-85B5-903233A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3C467-7950-4776-BA37-B400D25C2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E95B-B5F8-4C1A-BA86-EDDBB74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048F-2040-42A9-9CD7-71C0DBF6A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1A191-DF5D-419A-B42C-14BD703D8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E40BD-DC33-4810-90ED-2A1D04E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87DA-60D9-407C-AE4E-4A96F4D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1ACA-68FF-40BC-B932-B2AE0ED4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3AAFB-0CCB-45B0-8513-4DD65DAB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2504-A2B7-4A77-950F-418497A0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D403E-99CB-49C5-8585-E147E320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6A4A-2C41-4FE5-A127-826D18B1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E020A-4A83-41A2-8B88-E3CC32D4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D1411-EF86-4083-8EE5-00503830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2DD6F-AD71-4990-AD2D-47524F6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7C5D5-4464-4DB2-BFA1-67601C3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C3B05-BA54-41E1-8AB1-2BC45E419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BF8D-1477-4768-A694-42E5ED99E7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B7F-1372-46AA-B1A5-1FE3302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8CB5-A5C2-4C81-808D-581FFBE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59C-ABF8-4227-AF91-D0C6EDD3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3A8-A154-4EE2-B005-DDA8E7A1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422D-FBED-4F7C-A0A4-D770F74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D808-3D4F-45A2-B1B7-EA5E2493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0EC9-429C-429E-BB34-929BC269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9C75-EFC6-44DC-8C9C-5490B1E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910D-A01D-4014-AEF7-C42EC79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113E-671C-4965-A609-74232127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BE3-5C83-439F-9411-691B7F7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B489-D330-4915-B20A-0B6DF271A4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92F11-2534-43B9-890C-62502EB47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4ED0E-28A3-4DB2-9979-6544FAAC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7E0D5-6E0B-413D-8304-C0EAF8AF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6E82-9D90-4091-9E61-C7142F01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E136F-7F9C-42DF-8551-3118C139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BEFAE-B5CB-4173-B796-D7E034EC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95F1F-784D-471D-A52B-073C7C7A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D8143-955A-4627-9F41-51138473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8CCC2-16BA-47BA-A311-AF9B900F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8D8DA-3C27-4A3E-9987-9456E0D5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79E00-EC44-4947-B6DB-5379C7A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B260C-EEDF-4F0B-8F67-5D6E1C1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F3EBA-9792-46EC-ADBA-670D6D82B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4E24B-EFE0-4EDA-A549-3D8721011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72CD-FD47-4DE1-8D05-9DACB9C1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A506F-1C98-4330-A4C5-14E55F3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50150-5657-41EC-B8C8-D28C0A01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C9917-9659-44B6-9D41-B68FF38A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7FB66-C83A-46BA-938A-488F9D2D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0D701-788E-404B-AD31-6FB4A04F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E4702-E155-4DFB-8184-A4C37C9A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6E1B9-D435-4AFD-909A-DF5B450F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F92CB-C072-4E12-8646-40508060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E4258-477E-48DE-B924-062BFD8E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65E4C-BE31-425B-9F47-E703C84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493E-B467-4C86-816B-6298A74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3DCEE-EC0E-443C-ACBA-7DC166022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8734C-A731-4480-96EB-282B4FF7E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599E-2EE7-4FB7-9409-09C081C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818E-6701-4E7C-97C1-332A835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CC1A-3685-4FB9-9038-339A574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9CD2-448E-47A9-BB69-021BE653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E432-0EA1-4F6C-88CA-1EC865D8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0FB3-62CA-411B-98E7-A71E1F0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3B00-4A3D-407E-8756-E88A8FA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37B9-AB8A-495E-900A-98B88CE1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DB1E-D08F-4EE2-90A6-E5AD6AE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F514-8BA5-4F38-B134-16A55DFB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6065-4789-4B8D-8D21-791F62B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3BEF-916A-4E18-9A2A-117AB7211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1C634-8C12-4BED-B20F-BFB9EF2D0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A0A16-EA0A-4E58-A334-2D44C91F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3BCA5-AFEB-4B0E-B06F-C5E33B02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6F36B-5AF3-4727-B409-F19A33B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8AF05-A9F7-4B17-BF5B-28564290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3BC5D-30C9-402B-AD53-3CFF9D98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64454-E702-442B-8131-B87AB198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32CD-C415-4453-9E54-A327DC6E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BF3F1-48CA-4A82-9A00-38121C55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072AA-8F78-43B5-B3F6-69BC47CB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F36C4-2B35-4F56-A089-88C4EAD5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20DE7-E648-4452-8EEF-F903A6F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34B1F-D993-4B2A-9328-51D89FA84A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E314CF-FB9D-41D2-AED8-67AB77DC7B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A8E8A-1E97-49C3-A891-1BC0592E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B9A7E-B980-4D21-B0B7-B5EED16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806C9-F9BB-46E2-90AC-C452233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7F713A-B4B4-403E-B4E7-456D75B1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3A27-721E-4F81-8C8C-8EE1DDEE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EE8EA-9218-49A6-AE87-F8D83CF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D0162-1C88-4CFB-B839-E31229C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73FFE-3099-437C-A16D-5212E022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1DED1-9452-48C1-9DB9-C696D05E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E0ED06-165A-4C0E-845E-9B311E9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3F109-2D02-4D38-B234-CBC82C6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1F20F-AEA5-4D78-A061-C3D480A31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878AC-8320-4D3A-AA52-0094D4C8B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A0646-1131-4C9E-BCB7-2C93D73F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D1842-C46E-4324-A16D-E689759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6A8C98-691A-4F87-A546-E5E300FBFDE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0" y="6218280"/>
            <a:ext cx="68626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-3240" y="6603840"/>
            <a:ext cx="6858000" cy="2546640"/>
            <a:chOff x="-3240" y="6603840"/>
            <a:chExt cx="6858000" cy="2546640"/>
          </a:xfrm>
        </p:grpSpPr>
        <p:sp>
          <p:nvSpPr>
            <p:cNvPr id="49" name="Freeform 3"/>
            <p:cNvSpPr/>
            <p:nvPr/>
          </p:nvSpPr>
          <p:spPr>
            <a:xfrm>
              <a:off x="1271520" y="6603840"/>
              <a:ext cx="5577120" cy="646200"/>
            </a:xfrm>
            <a:custGeom>
              <a:avLst/>
              <a:gdLst>
                <a:gd name="textAreaLeft" fmla="*/ 0 w 5577120"/>
                <a:gd name="textAreaRight" fmla="*/ 5577480 w 557712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4920" y="6981840"/>
              <a:ext cx="6813720" cy="1046160"/>
            </a:xfrm>
            <a:custGeom>
              <a:avLst/>
              <a:gdLst>
                <a:gd name="textAreaLeft" fmla="*/ 0 w 6813720"/>
                <a:gd name="textAreaRight" fmla="*/ 6814080 w 6813720"/>
                <a:gd name="textAreaTop" fmla="*/ 0 h 1046160"/>
                <a:gd name="textAreaBottom" fmla="*/ 1046520 h 10461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3240" y="6662880"/>
              <a:ext cx="6851520" cy="2487600"/>
              <a:chOff x="3240" y="6662880"/>
              <a:chExt cx="6851520" cy="2487600"/>
            </a:xfrm>
          </p:grpSpPr>
          <p:pic>
            <p:nvPicPr>
              <p:cNvPr id="5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6662880"/>
                <a:ext cx="685152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7"/>
              <p:cNvSpPr/>
              <p:nvPr/>
            </p:nvSpPr>
            <p:spPr>
              <a:xfrm>
                <a:off x="7920" y="6667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6649920"/>
              <a:ext cx="6858000" cy="10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3D9803-D5DF-4DB2-A193-F999FB2CE15A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727360" y="4006800"/>
            <a:ext cx="138240" cy="304920"/>
          </a:xfrm>
          <a:custGeom>
            <a:avLst/>
            <a:gdLst>
              <a:gd name="textAreaLeft" fmla="*/ 0 w 138240"/>
              <a:gd name="textAreaRight" fmla="*/ 138600 w 138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2587680" y="4006800"/>
            <a:ext cx="136440" cy="304920"/>
          </a:xfrm>
          <a:custGeom>
            <a:avLst/>
            <a:gdLst>
              <a:gd name="textAreaLeft" fmla="*/ 0 w 136440"/>
              <a:gd name="textAreaRight" fmla="*/ 136800 w 136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505B98-17BB-419B-B300-8025C6DF4A3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148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5E6A41-D980-4361-BCE6-68E1B269E8F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D4A179-A57F-47DE-9A81-0AE1AE7E26E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236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D9D921-DF5F-4171-AF7C-27DF9702C02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D59BFB-A128-4A31-A227-1445DE611CB7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324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7"/>
          <p:cNvSpPr/>
          <p:nvPr/>
        </p:nvSpPr>
        <p:spPr>
          <a:xfrm>
            <a:off x="6497640" y="6651720"/>
            <a:ext cx="138240" cy="304560"/>
          </a:xfrm>
          <a:custGeom>
            <a:avLst/>
            <a:gdLst>
              <a:gd name="textAreaLeft" fmla="*/ 0 w 138240"/>
              <a:gd name="textAreaRight" fmla="*/ 138600 w 1382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6357960" y="6651720"/>
            <a:ext cx="138240" cy="304560"/>
          </a:xfrm>
          <a:custGeom>
            <a:avLst/>
            <a:gdLst>
              <a:gd name="textAreaLeft" fmla="*/ 0 w 138240"/>
              <a:gd name="textAreaRight" fmla="*/ 138600 w 1382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B62744-5B56-4118-BC29-BA1AF60E613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37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5" name="Picture 6" descr=""/>
          <p:cNvPicPr/>
          <p:nvPr/>
        </p:nvPicPr>
        <p:blipFill>
          <a:blip r:embed="rId3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17"/>
          </p:nvPr>
        </p:nvSpPr>
        <p:spPr>
          <a:xfrm>
            <a:off x="4915080" y="8330760"/>
            <a:ext cx="15969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83AAF1-CFEC-4906-ACD1-89E7CCE6159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dt" idx="18"/>
          </p:nvPr>
        </p:nvSpPr>
        <p:spPr>
          <a:xfrm>
            <a:off x="343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31280" y="56289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Стародеревянковское сельское посел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4C793-49C5-4BBE-A9E6-36ED131E8AA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02920" y="2879280"/>
            <a:ext cx="61722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                      </a:t>
            </a: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Бюджет </a:t>
            </a: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для граждан 2021 год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343080" y="711360"/>
            <a:ext cx="6172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одготовлен на основе требований Бюджетного Кодекса Российской  Федерации, решения Совета Стародеревянковского сельского поселения Каневского района «О бюджетном процессе в Стародеревянковском сельском поселении Каневского района», иных законодательных,  нормативных правовых актов Российской Федерации, Краснодарского края и Совета Старославянского сельского поселения Каневского район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9948-AA81-4852-A8D9-5E7892B82F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343080" y="1143000"/>
            <a:ext cx="6172200" cy="73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Краснодарскому краю за 2021 год администрировало доходы местного бюджета на общую сумму 101266,9 тыс. рублей, а именно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 68950,5 тыс. рублей, в том числ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Налог на доходы физических лиц - на сумму 23556,3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Единый сельскохозяйственный налог - на сумму 4892,3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Налог на имущество физических лиц – на сумму 4763,2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Земельный налог - на сумму 25483,8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енежные взыскания и штрафы - на сумму 245,2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Прочие поступления от использования имущества - на сумму 499,6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- на сумму 9030,8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ходы от реализации имущества, находящегося в собственности сельских поселений – 418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ходы от оказания платных услуг и компенсации затрат государства – 55,4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Государственная политика – 5,4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Безвозмездные поступления — 32316,5 тыс. рублей, в том числ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Субсидии бюджетам бюджетной системы Российской Федерации - на сумму 18838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осуществляют военные комиссариаты - на сумму 736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передаваемых полномочий - на сумму 7,6 тыс.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Иные межбюджетные трансферты - на сумму 426,6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тации бюджетам бюджетной системы Российской Федерации – 7277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Прочие дотации – 5031,1 тыс. рублей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E00A9-2E0A-4464-B4E1-E28A4D4E1D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128520" y="225360"/>
            <a:ext cx="635796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57200" y="324000"/>
          <a:ext cx="6211800" cy="8258040"/>
        </p:xfrm>
        <a:graphic>
          <a:graphicData uri="http://schemas.openxmlformats.org/drawingml/2006/table">
            <a:tbl>
              <a:tblPr/>
              <a:tblGrid>
                <a:gridCol w="4761000"/>
                <a:gridCol w="1231920"/>
                <a:gridCol w="218880"/>
              </a:tblGrid>
              <a:tr h="564840">
                <a:tc rowSpan="2">
                  <a:txBody>
                    <a:bodyPr lIns="90000" rIns="90000" tIns="89640" bIns="46800" anchor="ctr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89640" bIns="46800" anchor="ctr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6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5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 госуда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03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FBD2B-EC32-401D-AA29-8E23EEE81E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343080" y="1371600"/>
            <a:ext cx="651492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ическое исполнение и общие кассовые расходы бюджетных ассигнований за 2021 год по  муниципальному образованию Стародеревянковское сельское поселение Каневской район составили 101533,9 тыс.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сходы были осуществлены по следующим разделам бюджетной классифик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100 «Общегосударственные вопросы» - 23534,1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200 «Национальная оборона» - 736,0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300 «Национальная безопасность и правоохранительная деятельность» - 29,5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400 «Национальная экономика» - 35689,6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500 «ЖКХ» - 26552,1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700 «Образование» - 60,0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800 «Культура или кинематография» - 11580,5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000 «Социальная политика» - 45,0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100 «Физическая культура и спорт» - 3301,3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300 «Обслуживание государственного и муниципального долга» - 5,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A7ED8-7060-4DE6-954A-047D21FCD5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165240" y="603360"/>
            <a:ext cx="6357960" cy="85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333360" y="609480"/>
          <a:ext cx="6175440" cy="7213680"/>
        </p:xfrm>
        <a:graphic>
          <a:graphicData uri="http://schemas.openxmlformats.org/drawingml/2006/table">
            <a:tbl>
              <a:tblPr/>
              <a:tblGrid>
                <a:gridCol w="3220920"/>
                <a:gridCol w="1108080"/>
                <a:gridCol w="1108080"/>
                <a:gridCol w="738360"/>
              </a:tblGrid>
              <a:tr h="1217880"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поселения: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03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3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6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1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8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1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5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8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162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B95EE-E16E-4039-A67D-F31D148F9F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343080" y="609480"/>
            <a:ext cx="6172200" cy="78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21 году были приняты следующие целевые программы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 муниципального образования «Обеспечение реализации функций муниципального образования, связанных с муниципальным управлением» - 1377,8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2. Муниципальная программа «Информационное общество Стародеревянковского сельского поселения Каневского района» - 1065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3. Муниципальная программа «Укрепление правопорядка и профилактика правонарушений на территории поселения» - 14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4. Муниципальная программа «Пожарная безопасность в Стародеревянковском сельском поселении Каневского района» - 35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5. Муниципальная программа «Развитие сельского хозяйства» - 2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6. Муниципальная программа «Комплексное и устойчивое развитие Стародеревянковского сельского поселения Каневского района в сфере дорожного хозяйства» - 34828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7. Муниципальная программа «Развитие Стародеревянковского сельского поселения Каневского района в сфере землепользования» - 859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8. Муниципальная программа «Развитие жилищно-коммунального хозяйства» - 9569,2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9. Муниципальная программа «Развитие благоустройства на территории Стародеревянковского сельского поселения Каневского района» - 16653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0. Муниципальная программа «Молодежь Стародеревянковского сельского поселения Каневского района» - 60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1. Муниципальная «Развитие культуры и кинематографии в Стародеревянковском сельском поселении Каневского района» - 11580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2. Муниципальная программа «Социальная политика Стародеревянковского сельского поселения Каневского района» - 106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3. Муниципальная программа «Развитие физической культуры и спорта» - 3301,3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4. Муниципальная программа «Улучшение условий и охраны труда в администрации Стародеревянковского сельского поселения Каневского района на 2020-2022 годы» - 25,9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5. Муниципальная программа «Энергосбережение и повышение энергетической эффективности на территории Стародеревянковского сельского поселения Каневского района на 2020-2022 годы» 5,0 тыс. рублей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697E8-C343-4498-B08C-E3E6775067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ABE7-B59C-4313-82B9-753B07F2A2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44360" y="255600"/>
            <a:ext cx="3848040" cy="45212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2876400" y="3746520"/>
            <a:ext cx="380232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343080" y="609480"/>
            <a:ext cx="617220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2021 году израсходовано денежных средств в сумме 2624,0 тыс. рублей на оплату за потребление электроэнергии по уличному освещению. Также по техническому и текущему ремонту уличного освещения израсходована сумма 767,1 тыс. ру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дминистрация Стародеревянковского сельского поселения является учредителем МУП «Озеленение», созданного в целях выполнения задач, возложенных на органы местного самоуправления в области коммунально-бытового обслуживания населения и содержания муниципального жилищного фонда. Согласно договоров МУП «Озеленение» выполнили работы на сумму 14975,4 тыс. рубл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ликвидации стихийных свалок на 460,0 тыс. руб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озеленению (покос травы, обрезка валка деревьев, высадка саженцев) на 3158,9 тыс. руб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грейдированию дорог на 5761,6 тыс. руб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прочему благоустройству (вывоз мусора, уборка территории парка, покраска) на сумму 5594,9 тыс. ру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A3A51-AC81-421C-8276-0CDC21E4DD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Viktor</cp:lastModifiedBy>
  <cp:lastPrinted>2020-05-28T12:17:32Z</cp:lastPrinted>
  <dcterms:modified xsi:type="dcterms:W3CDTF">2022-07-14T11:31:1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